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6D0-F182-4BE0-98A3-68B63D09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64F-EED8-4B4F-BC62-376F8F93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7D2-0670-462A-8123-5F5D19DB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444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132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444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132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3B6-A66F-44A2-8822-AF810DDF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4C3E-63A5-4071-8B49-18C6B2DF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BE53-9BFA-4DD2-95E5-2C74A443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FC9C-9916-4932-98CD-0CB481FE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2D8A-06CD-42CE-B39D-5501FC14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AFBB-E875-4D98-9482-E7B98E0E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25F9-5DAF-4800-AA3A-FE35635B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3787-44AA-4F4F-B39F-07810213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C8A-2436-4C61-99D0-CCA40BFB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F648-8CD8-49FC-871F-46A2FF63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0386-2E19-42C4-BF9C-4AEF02B5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A889-F9AE-4FEC-BB6D-4DBA9E72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800D-7864-4EE2-89BC-B97E550D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444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3132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444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3132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AC88-1C89-4E56-A02C-0F8075DB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B423-79C3-4373-B67C-DD566645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455F-E6E7-43AE-AA2F-DC13EE88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C3F-051F-42E8-ABEF-EE245CCE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A1B2-F586-4E84-B1D6-1D22F852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0180-87F1-40E0-9E72-F163633C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681-DF24-4F60-95B6-06061B51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A8E-DACA-4168-B522-6238C44D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bce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57bce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7bce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7bce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481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7692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76920"/>
            <a:ext cx="2133720" cy="1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AA0E-9E39-4AA6-A591-36B2BEEA54EA}" type="slidenum">
              <a:rPr b="0" lang="en-US" sz="1000" spc="-1" strike="noStrike">
                <a:solidFill>
                  <a:srgbClr val="57bce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8195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513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5136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513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B67E-6A76-4A0A-8163-FC893216E936}" type="slidenum">
              <a:rPr b="0" lang="en-US" sz="1000" spc="-1" strike="noStrike">
                <a:solidFill>
                  <a:srgbClr val="57bce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bce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7bce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bce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7bce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bce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57bce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7bce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bce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57bce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bce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57bce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bce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no.org/nov97/toolkit.html" TargetMode="External"/><Relationship Id="rId3" Type="http://schemas.openxmlformats.org/officeDocument/2006/relationships/hyperlink" Target="http://fno.org/oct97/question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un.uvic.ca/learn/program/hndouts/bloom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8195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581280"/>
            <a:ext cx="4648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bcef"/>
                </a:solidFill>
                <a:latin typeface="Tahoma"/>
              </a:rPr>
              <a:t>Sandy Stuart-Bayer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bcef"/>
                </a:solidFill>
                <a:latin typeface="Tahoma"/>
              </a:rPr>
              <a:t>Lee’s Summit High School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Questioning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For additional information on the importance of questioning and the different types of questions see: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Jamie McKenzie’s Questioning Toolbox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66cc"/>
                </a:solidFill>
                <a:uFillTx/>
                <a:latin typeface="Tahoma"/>
                <a:hlinkClick r:id="rId2"/>
              </a:rPr>
              <a:t>http://fno.org/nov97/toolkit.html</a:t>
            </a:r>
            <a:r>
              <a:rPr b="1" lang="en-US" sz="2200" spc="-1" strike="noStrike">
                <a:solidFill>
                  <a:srgbClr val="3399ff"/>
                </a:solidFill>
                <a:latin typeface="Tahoma"/>
              </a:rPr>
              <a:t>  or</a:t>
            </a:r>
            <a:endParaRPr b="1" lang="en-US" sz="22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The Question IS the Answer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66cc"/>
                </a:solidFill>
                <a:uFillTx/>
                <a:latin typeface="Tahoma"/>
                <a:hlinkClick r:id="rId3"/>
              </a:rPr>
              <a:t>http://fno.org/oct97/question.html</a:t>
            </a:r>
            <a:r>
              <a:rPr b="1" lang="en-US" sz="2200" spc="-1" strike="noStrike">
                <a:solidFill>
                  <a:srgbClr val="3399ff"/>
                </a:solidFill>
                <a:latin typeface="Tahoma"/>
              </a:rPr>
              <a:t> or</a:t>
            </a:r>
            <a:endParaRPr b="1" lang="en-US" sz="22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UnderstandingbyDesign Powerpoint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d"/>
                </a:solidFill>
                <a:latin typeface="Impact"/>
              </a:rPr>
              <a:t>But my teacher wants a thesis statement. . .</a:t>
            </a:r>
            <a:endParaRPr b="0" lang="en-US" sz="36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If your research assignment is required to have a thesis statement, essential questions will help you develop it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ahoma"/>
              </a:rPr>
              <a:t>Take a look at this presentation on  thesis statements from essential questions.</a:t>
            </a: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d"/>
                </a:solidFill>
                <a:latin typeface="Impact"/>
              </a:rPr>
              <a:t>To Learn More about </a:t>
            </a:r>
            <a:br>
              <a:rPr sz="3600"/>
            </a:br>
            <a:r>
              <a:rPr b="0" lang="en-US" sz="3600" spc="-1" strike="noStrike">
                <a:solidFill>
                  <a:srgbClr val="ffffbd"/>
                </a:solidFill>
                <a:latin typeface="Impact"/>
              </a:rPr>
              <a:t>Thesis Statements</a:t>
            </a:r>
            <a:endParaRPr b="0" lang="en-US" sz="36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bce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Purdue OWL’s Thesis or Question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7bce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Joyce Valenza’s “What is a Thesis?”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7bce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Indiana University’s “How to Write a Thesis Statement”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43880" y="2666880"/>
            <a:ext cx="482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bcef"/>
                </a:solidFill>
                <a:latin typeface="Times New Roman"/>
              </a:rPr>
              <a:t>Return to LSHS Research</a:t>
            </a:r>
            <a:endParaRPr b="0" lang="en-US" sz="3200" spc="-1" strike="noStrike">
              <a:solidFill>
                <a:srgbClr val="57bce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bcef"/>
                </a:solidFill>
                <a:latin typeface="Times New Roman"/>
              </a:rPr>
              <a:t>and Problem-Solving Model</a:t>
            </a:r>
            <a:endParaRPr b="0" lang="en-US" sz="3200" spc="-1" strike="noStrike">
              <a:solidFill>
                <a:srgbClr val="57bce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Are arguable-and important to argue about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Are at the heart of the subject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Recur--and </a:t>
            </a:r>
            <a:r>
              <a:rPr b="1" i="1" lang="en-US" sz="3200" spc="-1" strike="noStrike">
                <a:solidFill>
                  <a:srgbClr val="3399ff"/>
                </a:solidFill>
                <a:latin typeface="Tahoma"/>
              </a:rPr>
              <a:t>should</a:t>
            </a: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 recur--in professional work, adult life, as well as in the classroom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Raise more questions—”parent” questions that produce more questions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Often raise important issues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Can provide a purpose for learning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Are provocative, enticing, and engagingly framed. 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Are higher-order, in </a:t>
            </a:r>
            <a:r>
              <a:rPr b="1" lang="en-US" sz="3200" spc="-1" strike="noStrike" u="sng">
                <a:solidFill>
                  <a:srgbClr val="0066cc"/>
                </a:solidFill>
                <a:uFillTx/>
                <a:latin typeface="Tahoma"/>
                <a:hlinkClick r:id="rId2"/>
              </a:rPr>
              <a:t>Bloom's</a:t>
            </a: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 sense: they are always matters of analysis, synthesis, and evaluative judgment. You must “go beyond” the information given. 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Or, in BPA terms, they are Proficient and Advanced, never Basic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Answers to essential questions cannot be found. They must be invented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vs. leading Q’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3954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Essential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Asked to be argued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Designed to “uncover” new ideas, views, lines of argument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Set up inquiry, heading to new understandings.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19720" y="11426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Leading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Asked as a reminder, to prompt recall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Designed to “cover” knowledge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Point to a single, straightforward fact-a rhetorical question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Essential questions often begin with . .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Why? 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Which? 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How?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What if?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Why </a:t>
            </a: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do things happen the way they do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Which </a:t>
            </a: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do I select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How </a:t>
            </a: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could things be made better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Which </a:t>
            </a: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is best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What if </a:t>
            </a: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this happened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ahoma"/>
              </a:rPr>
              <a:t>Should require one of the following thought processes:</a:t>
            </a: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ahoma"/>
              </a:rPr>
              <a:t>Requires developing a plan or course of action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ahoma"/>
              </a:rPr>
              <a:t>OR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ahoma"/>
              </a:rPr>
              <a:t>Requires making a decision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ahoma"/>
              </a:rPr>
              <a:t>Examples:</a:t>
            </a: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Must a story have a moral? A beginning, middle, and end? Heroes and villains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Is Russia becoming more or less democratic since Brezhnev came into power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Is geometry more like map-making and using a map, or inventing and playing games like chess? Were theorems invented or discovered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Is prejudice more a view of race or class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What makes a family a community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Do statistics always lie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36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Examples continued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Are some aspects of another language and culture not understandable by people from other cultures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Is gravity a fact or a theory? Is evolution a scientific law or a theory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In what ways are animals human, and in what way are humans animals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Do mathematical models conceal as much as they reveal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(From </a:t>
            </a:r>
            <a:r>
              <a:rPr b="1" i="1" lang="en-US" sz="2800" spc="-1" strike="noStrike">
                <a:solidFill>
                  <a:srgbClr val="3399ff"/>
                </a:solidFill>
                <a:latin typeface="Tahoma"/>
              </a:rPr>
              <a:t>Understanding by Design: Curriculum and Assessment</a:t>
            </a: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, pp. 34-35)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Related or Supporting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These are the smaller questions that must be answered in order to answer the big, essential question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They provide background and guide the work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They tend to be more topic and subject-specific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02:29:52Z</dcterms:created>
  <dc:creator>Sandy Stuart</dc:creator>
  <dc:description/>
  <cp:keywords/>
  <dc:language>en-US</dc:language>
  <cp:lastModifiedBy>sstuart</cp:lastModifiedBy>
  <dcterms:modified xsi:type="dcterms:W3CDTF">2006-11-02T18:23:53Z</dcterms:modified>
  <cp:revision>54</cp:revision>
  <dc:subject/>
  <dc:title>PowerPoint Presentation  -  Understanding by Design</dc:title>
</cp:coreProperties>
</file>