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DD1-51F6-49B9-A545-F6AEA44F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563-E90D-4E1B-A107-0E294AD3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8B7-A0E6-4BA3-94BE-4D24EED5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748-4D9F-4F30-9FFF-E9C9BD6A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99D4-FF5F-4206-A78E-53339E5B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5588-FD8E-4748-B4EF-0878CE0E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5511-561E-4353-8AD5-883FB023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B899-E180-4EA2-ADA5-74D811B2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8BC7-3C64-4AB4-867C-0E8108A9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33B3-2894-448E-9477-27D133B7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B348-CBBB-419D-9252-3EC8D76A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FDF-4DF2-4D35-94F2-567FE55B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DA49-2342-41F7-AB63-5AC963B1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17E7-386D-404A-A334-B765F9F8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538F-EE7E-42B0-8DD3-502E7A0A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4D34-3066-432C-81FC-C187FE74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5E35-4DCD-4527-8641-124F921E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A00-A0E7-4848-AF65-797EFB34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F60-FFDC-450E-B567-6C391B0A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480-752B-4225-8BC7-AA129ED9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877-28C0-4A12-A180-30BFC607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82C-5D88-4E8A-944B-0E7E45D6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8A2-D0E1-4E3A-A196-C2108376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67F-FA88-45AA-8673-03E6E72E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7bce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7bce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481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7692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76920"/>
            <a:ext cx="2133720" cy="1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B944-8EF3-44EB-9EF9-A4BB1FAC75A7}" type="slidenum">
              <a:rPr b="0" lang="en-US" sz="1000" spc="-1" strike="noStrike">
                <a:solidFill>
                  <a:srgbClr val="57bce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5136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623D-2A4A-4173-96DE-3D7ED62CD57D}" type="slidenum">
              <a:rPr b="0" lang="en-US" sz="1000" spc="-1" strike="noStrike">
                <a:solidFill>
                  <a:srgbClr val="57bce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bce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7bce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7bce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no.org/nov97/toolkit.html" TargetMode="External"/><Relationship Id="rId3" Type="http://schemas.openxmlformats.org/officeDocument/2006/relationships/hyperlink" Target="http://fno.org/oct97/question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un.uvic.ca/learn/program/hndouts/bloom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Sandy Stuart-Bayer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Lee’s Summit High Schoo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Questioning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For additional information on the importance of questioning and the different types of questions see: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Jamie McKenzie’s Questioning Toolbox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6cc"/>
                </a:solidFill>
                <a:uFillTx/>
                <a:latin typeface="Tahoma"/>
                <a:hlinkClick r:id="rId2"/>
              </a:rPr>
              <a:t>http://fno.org/nov97/toolkit.html</a:t>
            </a:r>
            <a:r>
              <a:rPr b="1" lang="en-US" sz="2200" spc="-1" strike="noStrike">
                <a:solidFill>
                  <a:srgbClr val="3399ff"/>
                </a:solidFill>
                <a:latin typeface="Tahoma"/>
              </a:rPr>
              <a:t>  or</a:t>
            </a: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The Question IS the Answer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6cc"/>
                </a:solidFill>
                <a:uFillTx/>
                <a:latin typeface="Tahoma"/>
                <a:hlinkClick r:id="rId3"/>
              </a:rPr>
              <a:t>http://fno.org/oct97/question.html</a:t>
            </a:r>
            <a:r>
              <a:rPr b="1" lang="en-US" sz="2200" spc="-1" strike="noStrike">
                <a:solidFill>
                  <a:srgbClr val="3399ff"/>
                </a:solidFill>
                <a:latin typeface="Tahoma"/>
              </a:rPr>
              <a:t> or</a:t>
            </a: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UnderstandingbyDesign Powerpoint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But my teacher wants a thesis statement. . .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If your research assignment is required to have a thesis statement, essential questions will help you develop i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Take a look at this presentation on  thesis statements from essential questions.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To Learn More about </a:t>
            </a:r>
            <a:br>
              <a:rPr sz="3600"/>
            </a:b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Thesis Statements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Purdue OWL’s Thesis or Quest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Joyce Valenza’s “What is a Thesis?”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Indiana University’s “How to Write a Thesis Statement”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43880" y="2666880"/>
            <a:ext cx="482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bcef"/>
                </a:solidFill>
                <a:latin typeface="Times New Roman"/>
              </a:rPr>
              <a:t>Return to LSHS Research</a:t>
            </a:r>
            <a:endParaRPr b="0" lang="en-US" sz="3200" spc="-1" strike="noStrike">
              <a:solidFill>
                <a:srgbClr val="57bce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bcef"/>
                </a:solidFill>
                <a:latin typeface="Times New Roman"/>
              </a:rPr>
              <a:t>and Problem-Solving Model</a:t>
            </a:r>
            <a:endParaRPr b="0" lang="en-US" sz="3200" spc="-1" strike="noStrike">
              <a:solidFill>
                <a:srgbClr val="57bce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arguable-and important to argue abou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at the heart of the subjec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Recur--and </a:t>
            </a:r>
            <a:r>
              <a:rPr b="1" i="1" lang="en-US" sz="3200" spc="-1" strike="noStrike">
                <a:solidFill>
                  <a:srgbClr val="3399ff"/>
                </a:solidFill>
                <a:latin typeface="Tahoma"/>
              </a:rPr>
              <a:t>should</a:t>
            </a: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 recur--in professional work, adult life, as well as in the classroom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Raise more questions—”parent” questions that produce more questions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Often raise important issues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Can provide a purpose for learning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provocative, enticing, and engagingly framed. 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higher-order, in </a:t>
            </a:r>
            <a:r>
              <a:rPr b="1" lang="en-US" sz="3200" spc="-1" strike="noStrike" u="sng">
                <a:solidFill>
                  <a:srgbClr val="0066cc"/>
                </a:solidFill>
                <a:uFillTx/>
                <a:latin typeface="Tahoma"/>
                <a:hlinkClick r:id="rId2"/>
              </a:rPr>
              <a:t>Bloom's</a:t>
            </a: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 sense: they are always matters of analysis, synthesis, and evaluative judgment. You must “go beyond” the information given. 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Or, in BPA terms, they are Proficient and Advanced, never Basic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nswers to essential questions cannot be found. They must be invented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vs. leading Q’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954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ssential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Asked to be argued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esigned to “uncover” new ideas, views, lines of argument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Set up inquiry, heading to new understandings.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19720" y="11426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Leading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Asked as a reminder, to prompt recal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esigned to “cover” knowledge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Point to a single, straightforward fact-a rhetorical question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ssential questions often begin with . .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y? 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ich? 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How?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at if?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do things happen the way they do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ich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do I select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How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could things be made better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ich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is best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at if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this happened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Should require one of the following thought processes: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Requires developing a plan or course of act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OR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Requires making a decis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Examples: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Must a story have a moral? A beginning, middle, and end? Heroes and villain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Russia becoming more or less democratic since Brezhnev came into power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geometry more like map-making and using a map, or inventing and playing games like chess? Were theorems invented or discovered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prejudice more a view of race or class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at makes a family a community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Do statistics always lie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xamples continued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Are some aspects of another language and culture not understandable by people from other culture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gravity a fact or a theory? Is evolution a scientific law or a theory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n what ways are animals human, and in what way are humans animal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Do mathematical models conceal as much as they reveal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(From </a:t>
            </a:r>
            <a:r>
              <a:rPr b="1" i="1" lang="en-US" sz="2800" spc="-1" strike="noStrike">
                <a:solidFill>
                  <a:srgbClr val="3399ff"/>
                </a:solidFill>
                <a:latin typeface="Tahoma"/>
              </a:rPr>
              <a:t>Understanding by Design: Curriculum and Assessment</a:t>
            </a: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, pp. 34-35)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Related or Supporting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se are the smaller questions that must be answered in order to answer the big, essential question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y provide background and guide the work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y tend to be more topic and subject-specific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02:29:52Z</dcterms:created>
  <dc:creator>Sandy Stuart</dc:creator>
  <dc:description/>
  <cp:keywords/>
  <dc:language>en-US</dc:language>
  <cp:lastModifiedBy>sstuart</cp:lastModifiedBy>
  <dcterms:modified xsi:type="dcterms:W3CDTF">2006-11-02T18:23:53Z</dcterms:modified>
  <cp:revision>54</cp:revision>
  <dc:subject/>
  <dc:title>PowerPoint Presentation  -  Understanding by Design</dc:title>
</cp:coreProperties>
</file>