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0A4-D62D-4EE2-BDCB-71388AA4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D5F-347D-44B7-886C-2F59BC88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EA1-038C-421A-A1D4-CBD35D0B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6C9-71CD-4E56-993B-912678F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6E2-219C-4992-AC2D-0026E49F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4AF-7712-4D2D-89B3-F4E7908A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563-5AB8-48E2-86F0-FDA7EA7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517-88F0-43E2-AA7C-CBD380A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1518-7E74-4DA4-905C-F88E37A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5BA-BD49-4093-B787-8E21956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496F-9B95-4455-812F-6D46280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CB5-D499-4E0D-BE5D-9AAB9DFF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7B8-AF21-4282-8794-2FE3C402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2239-8543-4528-B725-A73390A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EBF6-7B9F-47CB-9719-54AA98E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F00F-F767-40E1-8BC9-517BA023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F4E-8E6C-498E-9CF6-39321647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924-AB4E-4D69-A76D-4B831D72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0E3-555D-449B-AB1B-C667C8E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5A9-1CF7-4BBA-A90A-B04EAFB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48A-44B9-4F38-ADA9-303978A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6CC-53FB-43DE-A542-B764682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DE6-F386-461D-AE9F-0FB248D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CFB-7BA5-42B4-ACEE-EB6AFDA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76920"/>
            <a:ext cx="213372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2CB-47ED-47F3-BA4D-036259B6C1FE}" type="slidenum">
              <a:rPr b="0" lang="en-US" sz="1000" spc="-1" strike="noStrike">
                <a:solidFill>
                  <a:srgbClr val="57bce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C40-D822-473D-92C8-420D2FEDEDAF}" type="slidenum">
              <a:rPr b="0" lang="en-US" sz="1000" spc="-1" strike="noStrike">
                <a:solidFill>
                  <a:srgbClr val="57bce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bce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bce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no.org/nov97/toolkit.html" TargetMode="External"/><Relationship Id="rId3" Type="http://schemas.openxmlformats.org/officeDocument/2006/relationships/hyperlink" Target="http://fno.org/oct97/question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un.uvic.ca/learn/program/hndouts/bloom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Sandy Stuart-Bay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Lee’s Summit High Schoo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Questioning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For additional information on the importance of questioning and the different types of questions see: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Jamie McKenzie’s Questioning Toolbox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http://fno.org/nov97/toolkit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The Question IS the Answ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3"/>
              </a:rPr>
              <a:t>http://fno.org/oct97/question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UnderstandingbyDesign Powerpoi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But my teacher wants a thesis statement. . .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If your research assignment is required to have a thesis statement, essential questions will help you develop i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ake a look at this presentation on  thesis statements from essential questions.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o Learn More about </a:t>
            </a:r>
            <a:br>
              <a:rPr sz="3600"/>
            </a:b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hesis Statement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Purdue OWL’s Thesis or Ques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Joyce Valenza’s “What is a Thesis?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Indiana University’s “How to Write a Thesis Statement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43880" y="2666880"/>
            <a:ext cx="48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Return to LSHS Research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and Problem-Solving Model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rguable-and important to argue abou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t the heart of the subjec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ecur--and </a:t>
            </a:r>
            <a:r>
              <a:rPr b="1" i="1" lang="en-US" sz="3200" spc="-1" strike="noStrike">
                <a:solidFill>
                  <a:srgbClr val="3399ff"/>
                </a:solidFill>
                <a:latin typeface="Tahoma"/>
              </a:rPr>
              <a:t>should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recur--in professional work, adult life, as well as in the classroom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aise more questions—”parent” questions that produce more question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ften raise important issue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an provide a purpose for learning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provocative, enticing, and engagingly framed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higher-order, in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Bloom's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sense: they are always matters of analysis, synthesis, and evaluative judgment. You must “go beyond” the information given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r, in BPA terms, they are Proficient and Advanced, never Bas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nswers to essential questions cannot be found. They must be invented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vs. leading Q’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54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to be argued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uncover” new ideas, views, lines of argume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Set up inquiry, heading to new understandings.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19720" y="11426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Leading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as a reminder, to prompt recal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cover” knowledge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Point to a single, straightforward fact-a rhetorical question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 questions often begin with . .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y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ich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How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at if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things happen the way they do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I select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How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could things be made bett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is best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if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this happened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Should require one of the following thought process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developing a plan or course of ac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OR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making a decis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Exampl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Must a story have a moral? A beginning, middle, and end? Heroes and villain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Russia becoming more or less democratic since Brezhnev came into pow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eometry more like map-making and using a map, or inventing and playing games like chess? Were theorems invented or discovered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prejudice more a view of race or class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makes a family a communit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statistics always lie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xamples continued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Are some aspects of another language and culture not understandable by people from other culture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ravity a fact or a theory? Is evolution a scientific law or a theor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n what ways are animals human, and in what way are humans animal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mathematical models conceal as much as they reveal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(From </a:t>
            </a:r>
            <a:r>
              <a:rPr b="1" i="1" lang="en-US" sz="2800" spc="-1" strike="noStrike">
                <a:solidFill>
                  <a:srgbClr val="3399ff"/>
                </a:solidFill>
                <a:latin typeface="Tahoma"/>
              </a:rPr>
              <a:t>Understanding by Design: Curriculum and Assessment</a:t>
            </a: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, pp. 34-35)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Related or Supporting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se are the smaller questions that must be answered in order to answer the big, essential question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provide background and guide the work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tend to be more topic and subject-specif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2:29:52Z</dcterms:created>
  <dc:creator>Sandy Stuart</dc:creator>
  <dc:description/>
  <cp:keywords/>
  <dc:language>en-US</dc:language>
  <cp:lastModifiedBy>sstuart</cp:lastModifiedBy>
  <dcterms:modified xsi:type="dcterms:W3CDTF">2006-11-02T18:23:53Z</dcterms:modified>
  <cp:revision>54</cp:revision>
  <dc:subject/>
  <dc:title>PowerPoint Presentation  -  Understanding by Design</dc:title>
</cp:coreProperties>
</file>