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325-578F-4349-8B3A-01268AF1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410-A7D4-4AB9-A65C-11E3755D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B6E-DA53-46E7-B8C8-99C3F215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7A6-708F-4B2D-A93A-757298F9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3CF8-62F7-417E-BDCA-F231D6F3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248B-04FE-403E-B89F-50F8264F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2584-D0C7-445C-84BF-C04DA042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817F-408D-4136-80F9-9BC8F79E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F9EB-CB19-4D9F-9EE6-62C76EB1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AC98-EFBA-4AC2-963B-2BD45411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E93D-748D-4C62-AC1C-1F05EBB2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1C6-620D-40FD-BB62-AAB81058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9B1-8E9A-4F3A-8869-3EAA4CE8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AC67-41DC-4716-B2EF-DB4AD91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83B7-3BE4-44BE-BF54-C751FA68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26DB-D472-49A2-A71E-DD9ADCEB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E313-C5A7-43BE-A9A7-118FC0E5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90E-0EA5-48D2-BC06-09125878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91D-61E4-451F-8D1F-07CC48B1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9B3-B20C-4FE9-A9DC-C83440EE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AB2-B103-48AA-8031-51CEB03A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3FC-C1C3-45AF-AF67-375FE3A3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16F-3A44-4495-BAD3-D0D27D2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0AD-F5FC-4496-8FA1-D280D5CC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7bce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7bce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481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7692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76920"/>
            <a:ext cx="2133720" cy="1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959B-383D-4858-B1E5-17058EDEF437}" type="slidenum">
              <a:rPr b="0" lang="en-US" sz="1000" spc="-1" strike="noStrike">
                <a:solidFill>
                  <a:srgbClr val="57bce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513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C991-9E21-477B-8C3B-E729F902D374}" type="slidenum">
              <a:rPr b="0" lang="en-US" sz="1000" spc="-1" strike="noStrike">
                <a:solidFill>
                  <a:srgbClr val="57bce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ce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7bce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7bce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bce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no.org/nov97/toolkit.html" TargetMode="External"/><Relationship Id="rId3" Type="http://schemas.openxmlformats.org/officeDocument/2006/relationships/hyperlink" Target="http://fno.org/oct97/question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un.uvic.ca/learn/program/hndouts/bloom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58128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Sandy Stuart-Bayer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bcef"/>
                </a:solidFill>
                <a:latin typeface="Tahoma"/>
              </a:rPr>
              <a:t>Lee’s Summit High Schoo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Questioning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For additional information on the importance of questioning and the different types of questions see: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Jamie McKenzie’s Questioning Toolbox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6cc"/>
                </a:solidFill>
                <a:uFillTx/>
                <a:latin typeface="Tahoma"/>
                <a:hlinkClick r:id="rId2"/>
              </a:rPr>
              <a:t>http://fno.org/nov97/toolkit.html</a:t>
            </a:r>
            <a:r>
              <a:rPr b="1" lang="en-US" sz="2200" spc="-1" strike="noStrike">
                <a:solidFill>
                  <a:srgbClr val="3399ff"/>
                </a:solidFill>
                <a:latin typeface="Tahoma"/>
              </a:rPr>
              <a:t>  or</a:t>
            </a: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The Question IS the Answer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66cc"/>
                </a:solidFill>
                <a:uFillTx/>
                <a:latin typeface="Tahoma"/>
                <a:hlinkClick r:id="rId3"/>
              </a:rPr>
              <a:t>http://fno.org/oct97/question.html</a:t>
            </a:r>
            <a:r>
              <a:rPr b="1" lang="en-US" sz="2200" spc="-1" strike="noStrike">
                <a:solidFill>
                  <a:srgbClr val="3399ff"/>
                </a:solidFill>
                <a:latin typeface="Tahoma"/>
              </a:rPr>
              <a:t> or</a:t>
            </a: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UnderstandingbyDesign Powerpoint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But my teacher wants a thesis statement. . .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If your research assignment is required to have a thesis statement, essential questions will help you develop i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Take a look at this presentation on  thesis statements from essential questions.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To Learn More about </a:t>
            </a:r>
            <a:br>
              <a:rPr sz="3600"/>
            </a:b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Thesis Statements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Purdue OWL’s Thesis or Quest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Joyce Valenza’s “What is a Thesis?”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7bce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bcef"/>
                </a:solidFill>
                <a:latin typeface="Tahoma"/>
              </a:rPr>
              <a:t>Indiana University’s “How to Write a Thesis Statement”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43880" y="2666880"/>
            <a:ext cx="482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bcef"/>
                </a:solidFill>
                <a:latin typeface="Times New Roman"/>
              </a:rPr>
              <a:t>Return to LSHS Research</a:t>
            </a:r>
            <a:endParaRPr b="0" lang="en-US" sz="3200" spc="-1" strike="noStrike">
              <a:solidFill>
                <a:srgbClr val="57bce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bcef"/>
                </a:solidFill>
                <a:latin typeface="Times New Roman"/>
              </a:rPr>
              <a:t>and Problem-Solving Model</a:t>
            </a:r>
            <a:endParaRPr b="0" lang="en-US" sz="3200" spc="-1" strike="noStrike">
              <a:solidFill>
                <a:srgbClr val="57bce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arguable-and important to argue abou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at the heart of the subject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Recur--and </a:t>
            </a:r>
            <a:r>
              <a:rPr b="1" i="1" lang="en-US" sz="3200" spc="-1" strike="noStrike">
                <a:solidFill>
                  <a:srgbClr val="3399ff"/>
                </a:solidFill>
                <a:latin typeface="Tahoma"/>
              </a:rPr>
              <a:t>should</a:t>
            </a: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 recur--in professional work, adult life, as well as in the classroom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Raise more questions—”parent” questions that produce more questions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Often raise important issues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Can provide a purpose for learning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provocative, enticing, and engagingly framed. 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re higher-order, in </a:t>
            </a:r>
            <a:r>
              <a:rPr b="1" lang="en-US" sz="3200" spc="-1" strike="noStrike" u="sng">
                <a:solidFill>
                  <a:srgbClr val="0066cc"/>
                </a:solidFill>
                <a:uFillTx/>
                <a:latin typeface="Tahoma"/>
                <a:hlinkClick r:id="rId2"/>
              </a:rPr>
              <a:t>Bloom's</a:t>
            </a: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 sense: they are always matters of analysis, synthesis, and evaluative judgment. You must “go beyond” the information given. 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Or, in BPA terms, they are Proficient and Advanced, never Basic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Answers to essential questions cannot be found. They must be invented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vs. leading Q’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954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ssential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Asked to be argued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esigned to “uncover” new ideas, views, lines of argument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Set up inquiry, heading to new understandings.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19720" y="11426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Leading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Asked as a reminder, to prompt recall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Designed to “cover” knowledge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Point to a single, straightforward fact-a rhetorical question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ssential questions often begin with . .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y? 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ich? 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How?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ahoma"/>
              </a:rPr>
              <a:t>What if?</a:t>
            </a:r>
            <a:endParaRPr b="1" lang="en-US" sz="24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do things happen the way they do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ich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do I select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How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could things be made better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ich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is best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at if </a:t>
            </a:r>
            <a:r>
              <a:rPr b="0" lang="en-US" sz="2800" spc="-1" strike="noStrike">
                <a:solidFill>
                  <a:srgbClr val="3399ff"/>
                </a:solidFill>
                <a:latin typeface="Tahoma"/>
              </a:rPr>
              <a:t>this happened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Should require one of the following thought processes: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Requires developing a plan or course of act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OR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ahoma"/>
              </a:rPr>
              <a:t>Requires making a decision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Examples:</a:t>
            </a: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Must a story have a moral? A beginning, middle, and end? Heroes and villain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Russia becoming more or less democratic since Brezhnev came into power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geometry more like map-making and using a map, or inventing and playing games like chess? Were theorems invented or discovered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prejudice more a view of race or class?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What makes a family a community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Do statistics always lie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d"/>
                </a:solidFill>
                <a:latin typeface="Impact"/>
              </a:rPr>
              <a:t>Essential Questions</a:t>
            </a:r>
            <a:endParaRPr b="0" lang="en-US" sz="36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Examples continued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Are some aspects of another language and culture not understandable by people from other culture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s gravity a fact or a theory? Is evolution a scientific law or a theory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In what ways are animals human, and in what way are humans animals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Do mathematical models conceal as much as they reveal?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(From </a:t>
            </a:r>
            <a:r>
              <a:rPr b="1" i="1" lang="en-US" sz="2800" spc="-1" strike="noStrike">
                <a:solidFill>
                  <a:srgbClr val="3399ff"/>
                </a:solidFill>
                <a:latin typeface="Tahoma"/>
              </a:rPr>
              <a:t>Understanding by Design: Curriculum and Assessment</a:t>
            </a:r>
            <a:r>
              <a:rPr b="1" lang="en-US" sz="2800" spc="-1" strike="noStrike">
                <a:solidFill>
                  <a:srgbClr val="3399ff"/>
                </a:solidFill>
                <a:latin typeface="Tahoma"/>
              </a:rPr>
              <a:t>, pp. 34-35) </a:t>
            </a:r>
            <a:endParaRPr b="1" lang="en-US" sz="28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d"/>
                </a:solidFill>
                <a:latin typeface="Impact"/>
              </a:rPr>
              <a:t>Related or Supporting Questions</a:t>
            </a:r>
            <a:endParaRPr b="0" lang="en-US" sz="4000" spc="-1" strike="noStrike">
              <a:solidFill>
                <a:srgbClr val="ffffbd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se are the smaller questions that must be answered in order to answer the big, essential question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y provide background and guide the work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ahoma"/>
              </a:rPr>
              <a:t>They tend to be more topic and subject-specific.</a:t>
            </a:r>
            <a:endParaRPr b="1" lang="en-US" sz="3200" spc="-1" strike="noStrike">
              <a:solidFill>
                <a:srgbClr val="57bce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2:29:52Z</dcterms:created>
  <dc:creator>Sandy Stuart</dc:creator>
  <dc:description/>
  <cp:keywords/>
  <dc:language>en-US</dc:language>
  <cp:lastModifiedBy>sstuart</cp:lastModifiedBy>
  <dcterms:modified xsi:type="dcterms:W3CDTF">2006-11-02T18:23:53Z</dcterms:modified>
  <cp:revision>54</cp:revision>
  <dc:subject/>
  <dc:title>PowerPoint Presentation  -  Understanding by Design</dc:title>
</cp:coreProperties>
</file>